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25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1F4A-E2FC-4173-8306-198453D8A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CA82-43B9-4943-B0B8-359F09CA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AF67-D9EF-4F8B-959A-BDE2EB9E3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B244-93AB-448D-94BE-B30DC28C0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7E48-AC41-4A9A-8E26-3F49E86B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4C6F-8F5A-4D92-BE31-44933627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27A6-3F82-45CD-B8FE-2CF7E37C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D76D-96E0-43A0-AF81-DAFDACDE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46F8-5D20-4ECF-A409-BFEFE756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909F-7EC5-443F-BB90-8B0EF902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7E0C-E575-4D57-91F5-396D8B5D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1BC1-FDD7-4F87-80FB-AEF404B1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9290-BD46-47C7-9738-85257D4B6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-382680"/>
            <a:ext cx="8458200" cy="76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-728640"/>
            <a:ext cx="9144000" cy="831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8487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urved Mirrors:</a:t>
            </a:r>
            <a:br>
              <a:rPr sz="80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onvex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oncav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x Lenses bending toward the normal on a convex surface brings light rays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23880" y="2120760"/>
            <a:ext cx="63248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ave Lenses bending toward the normal on an oppositely curved surface (concave) diverges the light 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4545000" cy="4724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181480" y="2133720"/>
            <a:ext cx="28958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cusing and Spherical Aberr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419720" y="914400"/>
            <a:ext cx="3352680" cy="2514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057400" y="4648320"/>
            <a:ext cx="1828800" cy="1752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4648320"/>
            <a:ext cx="1828800" cy="1752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4572000"/>
            <a:ext cx="2286000" cy="1752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05720" y="4572000"/>
            <a:ext cx="2286000" cy="1752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48320" y="426708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43800" y="426708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4290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rrors and lenses with circular curvature create spherical aberration, where rays from the top edges of the mirror don’t foc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4267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herical aberration is corrected by making the lens shape more parabo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romatic Aberra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ue bends more. This cannot be corrected. You could minimize it it by using less of the lens edges (closing down the aper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105520" y="23623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5800" y="74520"/>
            <a:ext cx="7467480" cy="678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0880" y="4680"/>
            <a:ext cx="838224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52480" y="1382760"/>
            <a:ext cx="533412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762120" y="-106200"/>
          <a:ext cx="7696080" cy="70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-106200"/>
                    <a:ext cx="7696080" cy="70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8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085760"/>
            <a:ext cx="7086600" cy="57722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14760" y="0"/>
            <a:ext cx="721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mage inversion on reti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841400" y="0"/>
            <a:ext cx="5457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858000" cy="6235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791320"/>
            <a:ext cx="7848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t mirrors produce images that are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76520" y="1454040"/>
            <a:ext cx="5943600" cy="5403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4920" y="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raction (bending through) happens only when waves hit a medium on an angle. Why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400800" cy="5821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6858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 going into a denser medium bends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6858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 going into a less dense medium bends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2819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ell’s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184400"/>
            <a:ext cx="9144000" cy="5673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124080" y="0"/>
            <a:ext cx="45720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676520" y="1454040"/>
            <a:ext cx="5943600" cy="5403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4920" y="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is wave bending toward the norma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1219320"/>
            <a:ext cx="0" cy="5410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19720" y="8380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-727200"/>
            <a:ext cx="9144000" cy="831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1523880"/>
            <a:ext cx="16954560" cy="127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18:31:10Z</dcterms:created>
  <dc:creator>a</dc:creator>
  <dc:description/>
  <dc:language>en-US</dc:language>
  <cp:lastModifiedBy>SOCSD</cp:lastModifiedBy>
  <dcterms:modified xsi:type="dcterms:W3CDTF">2010-05-12T12:02:10Z</dcterms:modified>
  <cp:revision>10</cp:revision>
  <dc:subject/>
  <dc:title>PowerPoint Presentation</dc:title>
</cp:coreProperties>
</file>